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6FB-6002-4A6A-AD2F-5A7B51D5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7FE-5BFB-49F7-A1B4-4313801D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CDF-8F9A-4F0F-813B-8C7F99D2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DD3-8EC2-4E0F-A501-8B4C47FA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C86-71F4-499E-A14F-CFAD2333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585-8BCF-41FB-AADB-AAA0781E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0F5-CFC0-45F4-8DBB-193A9DA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308-4959-436C-B3F5-0876E1B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16B-1A8F-4863-9DA2-1448DC89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7EE-2407-48DD-A243-22EE2C3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4E0-C2B6-4664-AA3E-E3CDC2D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3A9-7065-4D10-9135-DA0FFE8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1C9-ACC3-4A0E-AF23-E41C3BEC8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ă numesc Păşcuţa Lucian şi sunt in clasa a X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-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a D, am ales profil filologie, diriginte Neagotă Victoria, deoarece urăsc unele materii, cum ar f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: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atematica,fizica,chimia etc. Îmi place foarte mult sa lucrez pe calculator, sa mă ocup de unele lucruri cum ar fi pirateria,hackingu şi floodu </a:t>
            </a:r>
            <a:r>
              <a:rPr b="1" lang="en-US" sz="16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, am 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învăţat foarte repede aceste lucruri ceea ce ma motivat să continuu ce am înce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8:25:05Z</dcterms:created>
  <dc:creator> </dc:creator>
  <dc:description/>
  <dc:language>en-US</dc:language>
  <cp:lastModifiedBy> </cp:lastModifiedBy>
  <dcterms:modified xsi:type="dcterms:W3CDTF">2011-09-22T18:53:26Z</dcterms:modified>
  <cp:revision>4</cp:revision>
  <dc:subject/>
  <dc:title>Diapozitivul 1</dc:title>
</cp:coreProperties>
</file>